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A604-72F9-4466-BA42-990F6C8E7397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0E88-27B5-455D-8F49-829A8233CB01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3EA5-C605-4741-9526-B78800AD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6C92-CBD0-481D-B6B3-E55A3E87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B643-7522-4DD3-963D-6BC6B840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7498-F4C4-475B-8C9B-260481D5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66E2-2A61-4E4D-AD96-0205B763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C3F5-9717-4FE1-80BB-04DA7CE1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40E5-02DD-4BC1-998A-E4261711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9C6C-F258-4DDE-8F51-AE55CBEB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2C78-ED55-4E77-AF10-53E11E0D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9C28-C693-403E-AA9C-4F279860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4C4E-418C-408A-8CFE-E7C1E7E7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3735-F916-484B-8CFD-222855CF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E84A-A1B0-48CC-A152-B466DEBA1D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7"/>
          <p:cNvGraphicFramePr/>
          <p:nvPr/>
        </p:nvGraphicFramePr>
        <p:xfrm>
          <a:off x="324000" y="3141720"/>
          <a:ext cx="1873080" cy="4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141720"/>
                    <a:ext cx="187308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13"/>
          <p:cNvGraphicFramePr/>
          <p:nvPr/>
        </p:nvGraphicFramePr>
        <p:xfrm>
          <a:off x="3643200" y="5572080"/>
          <a:ext cx="3745080" cy="11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572080"/>
                    <a:ext cx="3745080" cy="11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Line 16"/>
          <p:cNvSpPr/>
          <p:nvPr/>
        </p:nvSpPr>
        <p:spPr>
          <a:xfrm>
            <a:off x="755640" y="1413000"/>
            <a:ext cx="576360" cy="165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9"/>
          <p:cNvSpPr/>
          <p:nvPr/>
        </p:nvSpPr>
        <p:spPr>
          <a:xfrm flipH="1">
            <a:off x="2999880" y="3000240"/>
            <a:ext cx="870120" cy="1643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0" y="3500280"/>
            <a:ext cx="242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NZ" sz="24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, 2</a:t>
            </a:r>
            <a:r>
              <a:rPr b="1" lang="en-NZ" sz="24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,3</a:t>
            </a:r>
            <a:r>
              <a:rPr b="1" lang="en-NZ" sz="24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5143680" y="6072120"/>
            <a:ext cx="1785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Ester + HC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3"/>
          <p:cNvSpPr/>
          <p:nvPr/>
        </p:nvSpPr>
        <p:spPr>
          <a:xfrm>
            <a:off x="0" y="500040"/>
            <a:ext cx="172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NZ" sz="24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(Terti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5"/>
          <p:cNvSpPr/>
          <p:nvPr/>
        </p:nvSpPr>
        <p:spPr>
          <a:xfrm>
            <a:off x="1928880" y="0"/>
            <a:ext cx="5905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99"/>
                </a:solidFill>
                <a:latin typeface="Arial"/>
              </a:rPr>
              <a:t>Year 13 Organic Chemistry 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3"/>
          <p:cNvSpPr/>
          <p:nvPr/>
        </p:nvSpPr>
        <p:spPr>
          <a:xfrm rot="4335600">
            <a:off x="482040" y="2076120"/>
            <a:ext cx="17287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r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7</a:t>
            </a:r>
            <a:r>
              <a:rPr b="1" lang="en-GB" sz="2400" spc="-1" strike="noStrike" baseline="30000">
                <a:solidFill>
                  <a:srgbClr val="003399"/>
                </a:solidFill>
                <a:latin typeface="Arial"/>
              </a:rPr>
              <a:t>2-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/H</a:t>
            </a:r>
            <a:r>
              <a:rPr b="1" lang="en-GB" sz="24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1785600" y="1643040"/>
            <a:ext cx="857160" cy="1370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3"/>
          <p:cNvSpPr/>
          <p:nvPr/>
        </p:nvSpPr>
        <p:spPr>
          <a:xfrm>
            <a:off x="2643120" y="500040"/>
            <a:ext cx="2928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NZ" sz="24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56"/>
          <p:cNvGraphicFramePr/>
          <p:nvPr/>
        </p:nvGraphicFramePr>
        <p:xfrm>
          <a:off x="2714760" y="1357200"/>
          <a:ext cx="2090520" cy="73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Object 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14760" y="1357200"/>
                    <a:ext cx="209052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Line 16"/>
          <p:cNvSpPr/>
          <p:nvPr/>
        </p:nvSpPr>
        <p:spPr>
          <a:xfrm flipH="1" flipV="1">
            <a:off x="2286000" y="3500280"/>
            <a:ext cx="285840" cy="1285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3"/>
          <p:cNvSpPr/>
          <p:nvPr/>
        </p:nvSpPr>
        <p:spPr>
          <a:xfrm rot="4762800">
            <a:off x="1922760" y="3728880"/>
            <a:ext cx="1440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r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7</a:t>
            </a:r>
            <a:r>
              <a:rPr b="1" lang="en-GB" sz="2400" spc="-1" strike="noStrike" baseline="30000">
                <a:solidFill>
                  <a:srgbClr val="003399"/>
                </a:solidFill>
                <a:latin typeface="Arial"/>
              </a:rPr>
              <a:t>2-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/H</a:t>
            </a:r>
            <a:r>
              <a:rPr b="1" lang="en-GB" sz="24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59"/>
          <p:cNvGraphicFramePr/>
          <p:nvPr/>
        </p:nvGraphicFramePr>
        <p:xfrm>
          <a:off x="1357200" y="4786200"/>
          <a:ext cx="2014560" cy="85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Object 5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57200" y="4786200"/>
                    <a:ext cx="201456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33"/>
          <p:cNvSpPr/>
          <p:nvPr/>
        </p:nvSpPr>
        <p:spPr>
          <a:xfrm rot="17974200">
            <a:off x="2887200" y="3574440"/>
            <a:ext cx="17287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r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7</a:t>
            </a:r>
            <a:r>
              <a:rPr b="1" lang="en-GB" sz="2400" spc="-1" strike="noStrike" baseline="30000">
                <a:solidFill>
                  <a:srgbClr val="003399"/>
                </a:solidFill>
                <a:latin typeface="Arial"/>
              </a:rPr>
              <a:t>2-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/H</a:t>
            </a:r>
            <a:r>
              <a:rPr b="1" lang="en-GB" sz="24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285840" y="5143680"/>
            <a:ext cx="1789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NZ" sz="2400" spc="-1" strike="noStrike" baseline="30000">
                <a:solidFill>
                  <a:srgbClr val="ff0000"/>
                </a:solidFill>
                <a:latin typeface="Arial"/>
              </a:rPr>
              <a:t>o 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(Primary)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62"/>
          <p:cNvGraphicFramePr/>
          <p:nvPr/>
        </p:nvGraphicFramePr>
        <p:xfrm>
          <a:off x="3500280" y="2643120"/>
          <a:ext cx="2202120" cy="85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" name="Object 6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0280" y="2643120"/>
                    <a:ext cx="22021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 Box 26"/>
          <p:cNvSpPr/>
          <p:nvPr/>
        </p:nvSpPr>
        <p:spPr>
          <a:xfrm>
            <a:off x="3286080" y="2214720"/>
            <a:ext cx="250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Carboxyl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 flipH="1">
            <a:off x="5786280" y="28576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65"/>
          <p:cNvGraphicFramePr/>
          <p:nvPr/>
        </p:nvGraphicFramePr>
        <p:xfrm>
          <a:off x="6786720" y="2786040"/>
          <a:ext cx="1871640" cy="77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4" name="Object 6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86720" y="2786040"/>
                    <a:ext cx="18716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 Box 26"/>
          <p:cNvSpPr/>
          <p:nvPr/>
        </p:nvSpPr>
        <p:spPr>
          <a:xfrm>
            <a:off x="7207200" y="3571920"/>
            <a:ext cx="1936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cid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5786280" y="3071880"/>
            <a:ext cx="6638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68"/>
          <p:cNvGraphicFramePr/>
          <p:nvPr/>
        </p:nvGraphicFramePr>
        <p:xfrm>
          <a:off x="6516720" y="1197000"/>
          <a:ext cx="2047680" cy="76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8" name="Object 6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16720" y="1197000"/>
                    <a:ext cx="204768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Line 19" descr=""/>
          <p:cNvPicPr/>
          <p:nvPr/>
        </p:nvPicPr>
        <p:blipFill>
          <a:blip r:embed="rId15"/>
          <a:stretch/>
        </p:blipFill>
        <p:spPr>
          <a:xfrm>
            <a:off x="7473960" y="1871640"/>
            <a:ext cx="371520" cy="927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3"/>
          <p:cNvSpPr/>
          <p:nvPr/>
        </p:nvSpPr>
        <p:spPr>
          <a:xfrm>
            <a:off x="7812000" y="2276640"/>
            <a:ext cx="6638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NH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9"/>
          <p:cNvSpPr/>
          <p:nvPr/>
        </p:nvSpPr>
        <p:spPr>
          <a:xfrm flipV="1">
            <a:off x="5072040" y="3928680"/>
            <a:ext cx="2071800" cy="15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3"/>
          <p:cNvSpPr/>
          <p:nvPr/>
        </p:nvSpPr>
        <p:spPr>
          <a:xfrm rot="18214200">
            <a:off x="1663920" y="2078640"/>
            <a:ext cx="17287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r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7</a:t>
            </a:r>
            <a:r>
              <a:rPr b="1" lang="en-GB" sz="2400" spc="-1" strike="noStrike" baseline="30000">
                <a:solidFill>
                  <a:srgbClr val="003399"/>
                </a:solidFill>
                <a:latin typeface="Arial"/>
              </a:rPr>
              <a:t>2-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/H</a:t>
            </a:r>
            <a:r>
              <a:rPr b="1" lang="en-GB" sz="24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3"/>
          <p:cNvSpPr/>
          <p:nvPr/>
        </p:nvSpPr>
        <p:spPr>
          <a:xfrm rot="19407600">
            <a:off x="5218200" y="4323960"/>
            <a:ext cx="1224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5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9"/>
          <p:cNvSpPr/>
          <p:nvPr/>
        </p:nvSpPr>
        <p:spPr>
          <a:xfrm>
            <a:off x="4714920" y="3714840"/>
            <a:ext cx="1440" cy="180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3708360" y="4869000"/>
            <a:ext cx="10810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1" lang="en-GB" sz="2400" spc="-1" strike="noStrike" baseline="30000">
                <a:solidFill>
                  <a:srgbClr val="003399"/>
                </a:solidFill>
                <a:latin typeface="Arial"/>
              </a:rPr>
              <a:t>+/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9"/>
          <p:cNvSpPr/>
          <p:nvPr/>
        </p:nvSpPr>
        <p:spPr>
          <a:xfrm>
            <a:off x="6443640" y="7101000"/>
            <a:ext cx="0" cy="93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5786280" y="30002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3"/>
          <p:cNvSpPr/>
          <p:nvPr/>
        </p:nvSpPr>
        <p:spPr>
          <a:xfrm>
            <a:off x="5929200" y="2428920"/>
            <a:ext cx="6638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Cl</a:t>
            </a:r>
            <a:r>
              <a:rPr b="1" lang="en-GB" sz="2400" spc="-1" strike="noStrike" baseline="-25000">
                <a:solidFill>
                  <a:srgbClr val="0033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8"/>
          <p:cNvSpPr/>
          <p:nvPr/>
        </p:nvSpPr>
        <p:spPr>
          <a:xfrm>
            <a:off x="161640" y="857160"/>
            <a:ext cx="13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NZ" sz="24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N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9"/>
          <p:cNvSpPr/>
          <p:nvPr/>
        </p:nvSpPr>
        <p:spPr>
          <a:xfrm>
            <a:off x="1795320" y="557208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0"/>
          <p:cNvSpPr/>
          <p:nvPr/>
        </p:nvSpPr>
        <p:spPr>
          <a:xfrm>
            <a:off x="3722040" y="8571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ket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1"/>
          <p:cNvSpPr/>
          <p:nvPr/>
        </p:nvSpPr>
        <p:spPr>
          <a:xfrm>
            <a:off x="6786720" y="7142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A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20:05:05Z</dcterms:created>
  <dc:creator>Ministry of Education</dc:creator>
  <dc:description/>
  <dc:language>en-US</dc:language>
  <cp:lastModifiedBy>David</cp:lastModifiedBy>
  <dcterms:modified xsi:type="dcterms:W3CDTF">2009-08-30T08:21:01Z</dcterms:modified>
  <cp:revision>20</cp:revision>
  <dc:subject/>
  <dc:title>Slide 1</dc:title>
</cp:coreProperties>
</file>